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92C0C-C598-46D3-80CB-A7A9ADE4C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AC8BE-9B1D-4082-953C-13CEB383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416CE-3F25-45D8-A910-84A371F22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BB847-A40C-4534-82FC-3DB123EEC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B677-CC63-4F3A-B474-7EBE5F441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AD89-EBD2-4D44-B244-74857E54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493F-A342-4AF6-8E82-A7036AA7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E143-9672-4F02-815C-7818A702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2E03-A3F7-426C-8C9E-68E81296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E498-9932-4B89-BD94-D4C8CD44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73D7-6D59-46A5-86BB-0D82E921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D7041-F1F3-4AA5-9F92-F0E8376A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3DFD-734D-46A6-A8CA-60505897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28F9-F9C1-4011-B409-48DAFD44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5C3F-C6B1-44F8-AF5F-85BDEC76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E829-2567-43AF-B38C-B336E5EBC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AC4D-16A3-4D70-8856-0CDB5E62F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E3187-7FBA-4B44-9D52-7F3C48F5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14BCB-CFCE-4967-91EA-1295B933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3CE81-F2C0-4DC2-B541-91982196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B3681-585A-42D3-A690-78B68BA7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A2223-C178-4725-B2BD-525F50B7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5C405-07B2-498F-954B-036A6BF5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6511A-6D1C-42F0-9C32-3B9A05B5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D72A-0A6D-4F77-A9BE-E55937B8BD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3B55-6222-49CE-8CCD-5CE1A0EAFE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Acids and B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0590-639C-4DF3-B013-EA2816824E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228600" y="30492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H 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0   1   2   3  4  5   6    7  8  9  10  11  12  13 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u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[H</a:t>
            </a:r>
            <a:r>
              <a:rPr b="1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&gt; [OH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[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= [O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  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[OH</a:t>
            </a:r>
            <a:r>
              <a:rPr b="1" lang="en-US" sz="2800" spc="-1" strike="noStrike" baseline="30000">
                <a:solidFill>
                  <a:srgbClr val="00007d"/>
                </a:solidFill>
                <a:latin typeface="Comic Sans MS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]&gt;[H</a:t>
            </a:r>
            <a:r>
              <a:rPr b="1" lang="en-US" sz="2800" spc="-1" strike="noStrike" baseline="30000">
                <a:solidFill>
                  <a:srgbClr val="00007d"/>
                </a:solidFill>
                <a:latin typeface="Comic Sans MS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34920" y="2637000"/>
            <a:ext cx="4495680" cy="1371600"/>
          </a:xfrm>
          <a:prstGeom prst="leftArrow">
            <a:avLst>
              <a:gd name="adj1" fmla="val 50000"/>
              <a:gd name="adj2" fmla="val 8194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4530600" y="2637000"/>
            <a:ext cx="4267440" cy="1371600"/>
          </a:xfrm>
          <a:prstGeom prst="rightArrow">
            <a:avLst>
              <a:gd name="adj1" fmla="val 50000"/>
              <a:gd name="adj2" fmla="val 89709"/>
            </a:avLst>
          </a:prstGeom>
          <a:solidFill>
            <a:srgbClr val="00b0f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3562560" y="518148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 = pOH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6914160" y="5181480"/>
            <a:ext cx="11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pH &gt;</a:t>
            </a:r>
            <a:r>
              <a:rPr b="0" lang="ar-SA" sz="24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1402920" y="5157720"/>
            <a:ext cx="10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H &lt;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Straight Arrow Connector 15"/>
          <p:cNvCxnSpPr/>
          <p:nvPr/>
        </p:nvCxnSpPr>
        <p:spPr>
          <a:xfrm flipH="1" flipV="1">
            <a:off x="1710720" y="3855240"/>
            <a:ext cx="19818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7" name="Straight Arrow Connector 17"/>
          <p:cNvCxnSpPr/>
          <p:nvPr/>
        </p:nvCxnSpPr>
        <p:spPr>
          <a:xfrm>
            <a:off x="4987800" y="3855600"/>
            <a:ext cx="1905840" cy="252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148" name="Rectangle 18"/>
          <p:cNvSpPr/>
          <p:nvPr/>
        </p:nvSpPr>
        <p:spPr>
          <a:xfrm>
            <a:off x="1375560" y="393228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ncrease the ac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9"/>
          <p:cNvSpPr/>
          <p:nvPr/>
        </p:nvSpPr>
        <p:spPr>
          <a:xfrm>
            <a:off x="5028480" y="3932280"/>
            <a:ext cx="23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Comic Sans MS"/>
              </a:rPr>
              <a:t>Increase the basis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98560" y="1265400"/>
            <a:ext cx="6842160" cy="581400"/>
          </a:xfrm>
          <a:prstGeom prst="rect">
            <a:avLst/>
          </a:prstGeom>
          <a:solidFill>
            <a:srgbClr val="ffcc99"/>
          </a:solidFill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 is inversely proportional to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80380-D874-40BF-868F-F854460461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23640" y="406440"/>
            <a:ext cx="828036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3 p66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= 3.2 x 10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–4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M. 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=1.0 x 10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–3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hat is the pH in the two occa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928880"/>
            <a:ext cx="8280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US: pH is inversely proportional to [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95280" y="2508120"/>
                <a:ext cx="820908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0AD3E-B6FA-4946-8D96-A850B9EC6F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23640" y="333360"/>
            <a:ext cx="83516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4 p66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e pH = 4.82 , What is 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of the 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3880" indent="-2476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98900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1994040"/>
            <a:ext cx="8280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39640" y="2565360"/>
                <a:ext cx="5761080" cy="24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3348000" y="5229360"/>
            <a:ext cx="5470560" cy="147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a50021"/>
                </a:solidFill>
                <a:uFillTx/>
                <a:latin typeface="Comic Sans MS"/>
              </a:rPr>
              <a:t>In the calculat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Comic Sans MS"/>
              </a:rPr>
              <a:t>Press SHEFT + log button + (-ve ) value (= 4.82) + equal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BC8F3-2CB5-4FD3-87B3-83AE1E1CB3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24000" y="333000"/>
            <a:ext cx="843912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5 p66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e [O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= 2.9 x 10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–4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M. What is the pH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NaOH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198900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68360" y="2565360"/>
                <a:ext cx="7488360" cy="18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95280" y="1994040"/>
            <a:ext cx="82803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042920" y="4653000"/>
                <a:ext cx="6012000" cy="21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[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O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]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7093080" y="6021360"/>
            <a:ext cx="1871640" cy="6426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H = 10.46 &gt; 7 BASIC (Na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BE51B-CD98-4E90-9FF0-ACC8D84F88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24000" y="1368360"/>
                <a:ext cx="8569080" cy="33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idic Solution  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sic Solution</m:t>
                            </m:r>
                          </m:e>
                        </m:ba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↓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 </m:t>
                        </m:r>
                        <m:r>
                          <m:t xml:space="preserve">↓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            X                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↓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             </m:t>
                        </m:r>
                        <m:r>
                          <m:t xml:space="preserve">↓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250920" y="765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1B5F3-27C7-40E2-9B18-7D0E8DD018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411280" y="249228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Chapter 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33E99-B4A6-4139-961A-A6B8028A41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15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5100" spc="-1" strike="noStrike">
                <a:solidFill>
                  <a:srgbClr val="00007d"/>
                </a:solidFill>
                <a:latin typeface="Comic Sans MS"/>
              </a:rPr>
              <a:t>Acids and Bases</a:t>
            </a: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661-666</a:t>
            </a: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br>
              <a:rPr sz="44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 702 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15.9, 15.13, 15.16, 15.18, 15.20, 15.22, 15.24, 15.26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9F66E-D932-4CB9-958B-AB6AC3C89B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-302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15 Acids and Bases 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5.2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Acid-Base Properties of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  <a:ea typeface="Times New Roman"/>
              </a:rPr>
              <a:t>15.3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-A Measure of Aci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B6577-8299-44D9-A13E-9BAC4C14BE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Content Placeholder 1"/>
          <p:cNvSpPr/>
          <p:nvPr/>
        </p:nvSpPr>
        <p:spPr>
          <a:xfrm>
            <a:off x="457200" y="981000"/>
            <a:ext cx="8229600" cy="49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9960" indent="-217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id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ubstance that produces hydrogen ions in water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Cl (aq) → 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q) + Cl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‐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ubstance that produces hydroxide ions in water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NaOH (aq) → Na</a:t>
            </a:r>
            <a:r>
              <a:rPr b="0" lang="en-US" sz="32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(aq) + OH</a:t>
            </a:r>
            <a:r>
              <a:rPr b="0" lang="en-US" sz="32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‐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cid neutralizes a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960" indent="-217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q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 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OH</a:t>
            </a:r>
            <a:r>
              <a:rPr b="0" lang="en-US" sz="32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‐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(aq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→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(ℓ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3398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Introduction: Acids and 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B9A06-C570-4914-860C-B340A1B05C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052280"/>
            <a:ext cx="8229600" cy="53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ter is unique solvent , it can act as acid or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c"/>
                </a:solidFill>
                <a:latin typeface="Comic Sans MS"/>
                <a:ea typeface="Times New Roman"/>
              </a:rPr>
              <a:t>Autoionization of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quilibrium expression for this process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c"/>
                </a:solidFill>
                <a:latin typeface="Comic Sans MS"/>
                <a:ea typeface="Times New Roman"/>
              </a:rPr>
              <a:t>Ion-product consta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6c"/>
                </a:solidFill>
                <a:latin typeface="Comic Sans MS"/>
                <a:ea typeface="Times New Roman"/>
              </a:rPr>
              <a:t>for wat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K</a:t>
            </a:r>
            <a:r>
              <a:rPr b="1" lang="en-US" sz="3200" spc="-1" strike="noStrike" baseline="-25000">
                <a:solidFill>
                  <a:srgbClr val="00007d"/>
                </a:solidFill>
                <a:latin typeface="Comic Sans MS"/>
                <a:ea typeface="Times New Roman"/>
              </a:rPr>
              <a:t>w</a:t>
            </a:r>
            <a:r>
              <a:rPr b="1" lang="en-US" sz="3200" spc="-1" strike="noStrike">
                <a:solidFill>
                  <a:srgbClr val="00007d"/>
                </a:solidFill>
                <a:latin typeface="Comic Sans MS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520" indent="-235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t 25 °C, K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= 1.0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1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−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-27000"/>
            <a:ext cx="87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15.2 The Acid-Base Propertie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74560" y="2095560"/>
                <a:ext cx="824544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↔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987640" y="3860640"/>
                <a:ext cx="386568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4500720" y="1628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ydronium 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6720" y="19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6200" y="436572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7d"/>
                </a:solidFill>
                <a:latin typeface="Comic Sans MS"/>
              </a:rPr>
              <a:t>ثابت الحاصل الايوني للم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411280" y="5335560"/>
                <a:ext cx="394524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5C799-582E-4D13-A343-48A1FBB227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533520" y="981000"/>
            <a:ext cx="8381880" cy="57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In pure wa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pure water [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= [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(neut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In acidic sol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In basic solution</a:t>
            </a:r>
            <a:r>
              <a:rPr b="0" lang="ar-SA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042920" y="3357720"/>
                <a:ext cx="662472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457200" y="-302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Ion Product of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11280" y="1690560"/>
                <a:ext cx="806436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003640" y="4437000"/>
                <a:ext cx="2953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&gt;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003640" y="5516640"/>
                <a:ext cx="2953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&lt;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BED59-7EBD-43C6-A884-08A9871BBB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488520"/>
            <a:ext cx="914400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Example 15.2 p66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alculate the [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ions in ammonia , [OH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] =0.0025 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70028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1844640"/>
            <a:ext cx="8964720" cy="47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[H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=  4 x10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12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;  [HO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=2.5 x 10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[H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&lt; [HO</a:t>
            </a:r>
            <a:r>
              <a:rPr b="0" lang="en-US" sz="36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] the solution is ba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95280" y="2492280"/>
                <a:ext cx="7848720" cy="22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[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O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]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2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4E9CC-E440-40FA-B2A6-C454E5EE89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7928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 of a solution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egative logarithm of the hydrogen ion concen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the same mann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the same mann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40464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15.3 pH-A Measure of Ac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116000" y="1916280"/>
                <a:ext cx="6191280" cy="15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140360" y="3716280"/>
                <a:ext cx="338292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OH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878120" y="5686560"/>
                <a:ext cx="48546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1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766E7-ED8F-4398-AD98-175BCB3215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7928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In pure wa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40464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15.3 pH-A Measure of Ac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042920" y="1700280"/>
                <a:ext cx="6513480" cy="29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OH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BC5C5-0034-4516-AF31-69CA79E755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2-17T15:54:26Z</dcterms:modified>
  <cp:revision>1482</cp:revision>
  <dc:subject/>
  <dc:title>General Chemistry CHEM 110</dc:title>
</cp:coreProperties>
</file>